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6C4-E27E-426B-BF60-B14F2550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4BB-439A-407D-9986-AF8CBD1B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0B9B-5362-42E0-8A82-C15FAF44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C96F-FA91-450A-B11C-0E80017B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679-F19E-486C-9589-28FEF829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344-BDAD-4722-B4D1-21FF8697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62CB-67E8-4CE9-860B-2E5E4FBD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88A-9C6F-43D2-B069-1239CF42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217-2F22-481D-9A6E-5ACE15E5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13E-9FF9-4B4A-9501-4651E830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F82-0B65-41C0-8100-839BEAE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C55-F8E5-4D50-94E8-5517DD56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30CA-E330-4B23-AFF2-EBB0068FB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for script and powerpo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e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of your s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re the station is located (must be a city in a German speaking countr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n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and date (this can be any date of your choosing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p story  (Unsere Hauptbericht  [our top story] ist…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nimal is missing or lost. (missing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 feh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) (lost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t verloren.) “We have the owner here”.  (Besitzer/Besitzerin - own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say hel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for owner’s name and ans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where s/he l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ype animal they are looking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name of the ani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description using colors and si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tempera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a interesting detail about the p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contact number and/or email address if the animal is found. (Wenn gefunden, rufen Sie bei….. an.)  (Wenn gefunden, schicken Sie eine Email an… 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nk you (said to the interviewe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must say Goodby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1" descr=""/>
          <p:cNvPicPr/>
          <p:nvPr/>
        </p:nvPicPr>
        <p:blipFill>
          <a:blip r:embed="rId1"/>
          <a:stretch/>
        </p:blipFill>
        <p:spPr>
          <a:xfrm>
            <a:off x="6718320" y="-189000"/>
            <a:ext cx="264492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010720" cy="3786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0" y="4038480"/>
            <a:ext cx="899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6320" y="685800"/>
          <a:ext cx="8991360" cy="6035760"/>
        </p:xfrm>
        <a:graphic>
          <a:graphicData uri="http://schemas.openxmlformats.org/drawingml/2006/table">
            <a:tbl>
              <a:tblPr/>
              <a:tblGrid>
                <a:gridCol w="1325520"/>
                <a:gridCol w="1587600"/>
                <a:gridCol w="1806480"/>
                <a:gridCol w="1643040"/>
                <a:gridCol w="1369800"/>
                <a:gridCol w="1258920"/>
              </a:tblGrid>
              <a:tr h="1825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/ Di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4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40 - 6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61 - 8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in required elements and prior grammar concepts make meaning completely unclea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errors in both required elements and prior grammar concepts significantly hinder meaning in some instanc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in both required elements and prior grammar concepts that may impede comprehensi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– but errors exist in required elements;  however, they do not impede 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however, none in the required element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ken Fluen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 is so choppy that it impeded the ability to be understoo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times pace makes it hard to understand.  Only a sympathetic listener would understa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 is appropriate for a mid-novice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unc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pronunciation and use of English makes language almost impossible to understand.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pronunciation and use of English makes language difficult to understand, even for a sympathetic listen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times pronunciation makes it hard to understand.  Only a sympathetic listener would understan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unciation is appropriate for a mid-novice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aker clearly conveys the main idea, providing details and fulfilling all of the requirem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-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dequate and inaccurate use of vocabu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Rectangle 1"/>
          <p:cNvSpPr/>
          <p:nvPr/>
        </p:nvSpPr>
        <p:spPr>
          <a:xfrm>
            <a:off x="380880" y="4968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ing Skills Rubric for Level II Language:  Upper Dublin School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al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6320" y="685800"/>
          <a:ext cx="8991360" cy="6189840"/>
        </p:xfrm>
        <a:graphic>
          <a:graphicData uri="http://schemas.openxmlformats.org/drawingml/2006/table">
            <a:tbl>
              <a:tblPr/>
              <a:tblGrid>
                <a:gridCol w="1325520"/>
                <a:gridCol w="1587600"/>
                <a:gridCol w="1806480"/>
                <a:gridCol w="1643040"/>
                <a:gridCol w="1369800"/>
                <a:gridCol w="1258920"/>
              </a:tblGrid>
              <a:tr h="1825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/ Di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4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40 - 6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61 - 8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in required elements and prior grammar concepts make meaning completely unclea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errors in both required elements and prior grammar concepts significantly hinder meaning in some instance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in both required elements and prior grammar concepts that may impede comprehensibilit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– but errors exist in required elements;  however, they do not impede 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however, none in the required element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Fluenc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 were simply put into the script without much thought of written flow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s were jumpy.  Lack of transition words and rejoinders, made the script sound unnatur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ics flowed easily and seemed natural for a mid-novice wri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aker clearly conveys the main idea, providing details and fulfilling all of the requiremen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-novice level speak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d elements underli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 than 40% of the requirements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- 60%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 - 80%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 of the requirements were underlined and correctly labell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380880" y="49680"/>
            <a:ext cx="8458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peaking Skills Rubric for Level II Language:  Upper Dublin School Distr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ten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/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320" y="685800"/>
          <a:ext cx="8991360" cy="3075120"/>
        </p:xfrm>
        <a:graphic>
          <a:graphicData uri="http://schemas.openxmlformats.org/drawingml/2006/table">
            <a:tbl>
              <a:tblPr/>
              <a:tblGrid>
                <a:gridCol w="1325520"/>
                <a:gridCol w="1587600"/>
                <a:gridCol w="1806480"/>
                <a:gridCol w="1643040"/>
                <a:gridCol w="1369800"/>
                <a:gridCol w="1258920"/>
              </a:tblGrid>
              <a:tr h="1825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/ Direc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4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40 - 6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61 - 80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81 - 99% or more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ten accura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in required elements on slide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errors in the on the slides (misspellin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hough generally understandable errors do ex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ct – no errors in written Ger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12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tures in  pres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repeated pictures and used inaccurate pi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ation repeated pictures or used inaccurate pictu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erifa Std 45 Light"/>
                          <a:ea typeface="Times New Roman"/>
                        </a:rPr>
                        <a:t>Pictures were adequate, but presentation lacked poli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ctures showed thought and creativity, but presentation was lacking polis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ye catching pictures -- unique and creative.  Added to the prese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380880" y="14112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werPoint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_____/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Rectangle 3" descr=""/>
          <p:cNvPicPr/>
          <p:nvPr/>
        </p:nvPicPr>
        <p:blipFill>
          <a:blip r:embed="rId1"/>
          <a:stretch/>
        </p:blipFill>
        <p:spPr>
          <a:xfrm>
            <a:off x="-1200240" y="3956040"/>
            <a:ext cx="47847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22320"/>
            <a:ext cx="4572000" cy="313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ript requirements for beginning newscast and introduction of the missing pet seg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l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ro of newsc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y and date (this can be any date of your choosing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p story  (Unsere Hauptbericht  [our top story] ist… 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 animal is missing or lost. (missing – Ein/eine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imal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ehlt.) (lost – Ein/eine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Animal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st verloren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 have the owner here”.  (Besitzer/Besitzerin - owner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contact number and/or email address if the animal is found. (Wenn gefunden, rufen Sie bei….. an.)  (Wenn gefunden, schicken Sie eine Email an…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dby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572000" y="0"/>
            <a:ext cx="4572000" cy="204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ript Requirements for the interview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asking for owner’s name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where s/he liv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Type animal they are looking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the name of the anim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description using colors and si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 the temper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Question and answer: an interesting detail about the p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51480" y="4530600"/>
            <a:ext cx="4592520" cy="231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presentation requirement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pening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ll let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ccurate picture of missing a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erman speaking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 weather pic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ys of the week written on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mperatures written on the slide (in Celsiu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4572000" y="2057400"/>
            <a:ext cx="45720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ript requirements for the weather foreca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roduction for the weather (you can’t just jump into the weather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 day foreca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roduce and talk about the weather for each d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gical temperatures (all numbers said in German NOT WRITT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gical weather conditions for each day (you may write these on the sl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 you for watching (Danke fürs Zuschaue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oodby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-1305000" y="3127320"/>
            <a:ext cx="588348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20:55:28Z</dcterms:created>
  <dc:creator>ahart</dc:creator>
  <dc:description/>
  <dc:language>en-US</dc:language>
  <cp:lastModifiedBy>Alissa Hart</cp:lastModifiedBy>
  <dcterms:modified xsi:type="dcterms:W3CDTF">2014-10-28T13:16:42Z</dcterms:modified>
  <cp:revision>24</cp:revision>
  <dc:subject/>
  <dc:title>Slide 1</dc:title>
</cp:coreProperties>
</file>